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F7A-7A0C-4B30-BDEB-500B15ED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215-72D3-4F81-9F35-B3E47174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ED2-EE16-4B3F-8546-D056488B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F28-C909-49C6-949F-53BA496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F0B-66A0-4226-9ACE-81CB1E7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F2B-61D8-4BC5-99B0-2141850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C21-6138-4A56-9643-D8EEC66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4FA-188C-4290-8A65-B43B5C5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85A-0F16-4D42-BD06-F261F71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E33-4D26-452C-863F-31C3409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CD0-D596-4573-93A7-D68F85B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367-95B3-48CE-944D-CAF7120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4CA-5803-45AC-A180-1904310139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8:43Z</dcterms:modified>
  <cp:revision>2</cp:revision>
  <dc:subject/>
  <dc:title>Sin título de diapositiva</dc:title>
</cp:coreProperties>
</file>